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46D3B-9B57-4967-9F03-C489E47B5A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5E799-2383-45CF-8947-EF54A8A974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ic Berne M.D. Games People Play, Penguin Books, 196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7CE6-4299-4511-899A-9A75B1B25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3237-A0DC-40FE-8243-5F96D4C45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62B8-AB49-4242-9B21-77823918C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A277-F138-4CC2-A2A5-70ED81F61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EFA0-EB09-49A4-9F6E-090BC5CD4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A60E-8B17-4C2D-AA17-72361B4C1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34D7-12DB-4FAB-ABA8-FF619FA53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75E7-FCA0-4CFB-B7D4-DBF3DC1AA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42BE-C1EC-4DEF-91DF-FD5A9A6B8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F726-AF0E-4049-A7BF-685F0E0B9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5FE3-B572-4742-8AC5-2D043273F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4C50-7BFE-4F58-93A4-FC340E9A3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BA0ED-A96F-4D6C-B2E5-1294871A21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nsactional Analy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ree Basic Concepts: Parent, Adult and Chi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actions: Among P, A and 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    &lt; -- &gt;   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  &lt; -- &gt;   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   &lt; -- &gt;   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are 9 possible trans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0000">
    <p:plus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nsactional  Ba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 – Pleasure Princi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go- Realistic Princi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er-Ego- Ethical Princi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0000">
    <p:plus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Three Ego St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ent- “Do as I do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ild- “What shall I do?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ult- “I will be frank with you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0000">
    <p:plus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i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ul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ent in our Transaction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logical conditions are irrelevant to these ego st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shift from one ego state to another in transac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0000">
    <p:plus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hift in Ego St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ent- “Why don’t you prepare a time-table?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ild- “What is the point when one cannot follow it?” – Becomes an Adul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0000">
    <p:plus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nsactional Stimulus and Respon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initiator of the transaction is called the transactional stimulu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response of the respondent is called transactional respon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0000">
    <p:plus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es of Trans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mplementary Transactio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Appropriate and Expected Transactions indicating healthy human relationship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cation takes place when transactions are complementary. A stimulus invites a response; this response becomes a stimulus inviting further response and so 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0000">
    <p:plus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es of Transactions (Con.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rossed Transac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This causes most difficulties in social situ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y be, you should improve your teaching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always find fault with me whatever I do”  Parent-Child intera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0000">
    <p:plus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Gam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ween A shop keeper and a house wif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one is better, but you cannot afford i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ween A Teacher and a Studen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is a good topic, but you cannot handle it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ween an Expert and a Candida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you just said is totally wrong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0000">
    <p:plus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9T17:13:51Z</dcterms:created>
  <dc:creator/>
  <dc:description/>
  <dc:language>en-US</dc:language>
  <cp:lastModifiedBy>Bright</cp:lastModifiedBy>
  <dcterms:modified xsi:type="dcterms:W3CDTF">2013-08-23T10:05:06Z</dcterms:modified>
  <cp:revision>17</cp:revision>
  <dc:subject/>
  <dc:title>Transactional Analysis</dc:title>
</cp:coreProperties>
</file>